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F0C-3A95-4DFC-82A0-C31C29EE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3FF1-0F16-4CE2-9176-D3844C92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BB98-88EB-465D-AAA9-AF83465F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45C-BE2D-448A-8D21-7491A867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386-6AD2-4D4C-A69C-F0C6C472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9729-03BA-4CED-AE80-9D6C05E0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DFC0-C35A-4E3D-B3F2-F4E27AFC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2EB1-E885-48B1-BDB5-3EEC6A2A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915-FCD6-455F-B2CC-7432945A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C52-AFAE-413D-8418-BA32DCD9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2C40-D82F-4D9A-B6B7-A10029EC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249-B1E6-402C-B210-E62DF072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C5FA-7331-4B06-8E27-76944A748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rge Conn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nk Dr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nk Driv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4211640" cy="331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211640" y="836640"/>
            <a:ext cx="4932360" cy="6021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3860640"/>
            <a:ext cx="4211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10945800" cy="80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party or spill over effects are an uncompensated cost to third parties due to the production and/or consumption of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the increase in drunk driving. Increases in spill over costs are created. The spill over costs of drunk driving could be but are not limited to : Health costs to those involved in accident, insurance costs to those who may have been hi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the negative externalities of consumption PMB has moved to SM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ift has increased the spill over costs to third parties. Due to drunk drivers not paying full compensation to third parties, spill over costs ar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ing market failure as third parties lose money due to having to pay for e.g. insurance. Drunk drivers are not interested in them just themsel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7:55:50Z</dcterms:created>
  <dc:creator>Sam</dc:creator>
  <dc:description/>
  <dc:language>en-US</dc:language>
  <cp:lastModifiedBy>Sam</cp:lastModifiedBy>
  <dcterms:modified xsi:type="dcterms:W3CDTF">2008-07-20T20:34:37Z</dcterms:modified>
  <cp:revision>5</cp:revision>
  <dc:subject/>
  <dc:title>George Connell</dc:title>
</cp:coreProperties>
</file>